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4696-7F02-4095-811F-2E6B0F1B9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F5A4-4008-401A-969B-BE3519CED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41E1-A0A8-45BF-813E-9237E5FC2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932C-BC20-4CB6-BDA1-E9F6FE9E86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7351-3BB0-4A4C-9E8D-0596402DB6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0092-E44D-4559-8BB2-AA81EEE5A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D651-8945-4969-B469-9C1B63906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4CDC-D85B-4284-B4FE-C332C8E60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59A8-00F9-46E4-9007-F0545C2E3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0C09-4910-4F8C-8FCF-EAD5FCD00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1CBC-77C4-4755-8C6F-E3F90AA2C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E527-A334-4D97-AF90-097C1B0FD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61D76C-2E70-4B74-894E-746BB2DF342F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Resolutsioonimeetod ja Davis-Putnami (DPLL) meetod lausearvutu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ks efektiivsemaid meetodeid kehtestatavuse kontrolliks on resolutsioonimeetod. DPLL on selle täiendatud erivariant, mis sobib eeskätt lausearvutuse jao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 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30720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antud klauslite hulk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lgu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S, n :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ui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aldab tühja klauslit, lõpeta vastusega “vastuoluli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lgu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lga Sn kõigi resolventide hu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ui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+1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õpeta vastusega “kehtestatav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Vastasel korral omista n := n + 1 ning pöördu tagasi sammu 2 juu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kompaktsema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0800" y="1905120"/>
            <a:ext cx="69390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415880"/>
            <a:ext cx="7416720" cy="38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487520"/>
            <a:ext cx="439092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n võiks töö peatada: vastuolu on kä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604880"/>
            <a:ext cx="637236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algoritm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 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1738440"/>
            <a:ext cx="7559640" cy="13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 super method for proving properties of constructed or ord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From specific to more gener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Simple mathematical induction on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Structural induction on lists, tree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Well-founded induction on ordered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ve that a statement involving a natural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lds for all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proof consists of two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asis (base ca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: showing that the statement hold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is equal to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valu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is given in the question. Usu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= 0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inductive st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: showing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the statement holds for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the statement also hold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 + 1 is substitute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2000" y="1371600"/>
            <a:ext cx="6937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the idea is that one wishes to prove some pro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y instance of some sort of recursively defined structure such as lists or t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well-founded partial or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efined on the structures ("sublist" for lists and "subtree" for tree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ructural induction pro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proof that the proposition holds for all the minimal structures, and that if it holds for the immediate substructures of a certain struc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it must hol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. (Formally speaking, this then satisfies the premises of an axiom of well-founded induction, which asserts that these two conditions are sufficient for the proposition to hold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engu ka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Normaalkujude meeldetule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aas-resolutsioonimeetod lausearvut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Induktsi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Resolutsioonimeetodi korrektsus ja täielikk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Resolutsioonimeetodi elementaarsed strateegi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Horni reeglid ja resolutsioonimeetodi keerukus erijuhtu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DP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DPLL tehnoloogi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if the structures are lists, one usually introduces the partial order '&lt;' 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ever li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tail of li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this ordering, the empty list [] is the unique minimal el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ructural induction proof of some pro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n consists of two par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 proof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([]) is tr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proof that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 is true for some li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, and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is the tail of li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, t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 must also be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founded induction (wikip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well-founded rela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some property of elemen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we want to show tha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holds for all elem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suffices to show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is an ele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 is true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y R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 must also be tr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48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Korrektsu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lausel D on klauslite hulgast S resolutsioonimeetodiga tuletatav, siis kehtib valem S =&gt;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9106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Täielikku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muutujateta klauslite hulgal S ei ole ühtegi mudelit, siis on tühi klausel hulgast S resolutsioonimeetodiga tuletata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utame Boyeri tõestust aastast 71, mis kasutab induktsiooni mõõdul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6040" y="3886200"/>
            <a:ext cx="83217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tsiooni baasju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18532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tsiooni samm: alg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20120" cy="276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74599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tsiooni samm: jä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217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lamisstrateegia (subsumption)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line resolutsioonimeetodi täiendus, kus eemaldatakse kõik sellised disjunktid D, mille jaoks on disjunktide hulgas olemas disjunkt E mis on D alamhu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te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 B  neelab C v A v D v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lab A v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lamisstrateegia (subsumption)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äilitab resolutsioonimeetodi täielikk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282760"/>
            <a:ext cx="791532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ate eemaldamine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line resolutsioonimeetodi täiendus, kus eemaldatakse kõik sellised disjunktid D, mis on tautoloogi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te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 v A v B  v C    on tautoloogi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B                  ei ole tautoloogi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od töötab valemitega, mis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ktiivsel normaalkuju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a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ausemuutuja või selle eitu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e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k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k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õpliku hulga literaalide disjunktsio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õpliku hulga klauslite konjunktsi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ate eemaldamise täielikkuse tõest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isab tähelepanekust, et k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-L v L v F         </a:t>
            </a:r>
            <a:r>
              <a:rPr b="0" lang="et-EE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 v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v F v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s reegli eeldus L v D neelab reegli järeld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 clause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isjunkt, kus ei ole rohkem, kui üks positiivne litera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v C         on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               on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v C v D   ei ole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 B                   ei ole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resolu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elline resolutsioonimeetodi strateegia, kus üks resolutsioonireegli argumentidest peab olema positiivne ühikdisjunkt (aat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oreem: ühikresolutsioon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ieli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rni disjunktidest koosneva hulga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: induktsiooniga analoogiliselt resolutsioonimeetodi täielikkuse tõestus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resolutsiooni keerukus Horni juh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 ühikresolutsioonreegli rakendamine Horni juhul tekitab disjunkti, mis on lühem ja neelab eelduseks oleva disjunk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        -A v –B  v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 v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3720" y="1681200"/>
            <a:ext cx="829656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9960" y="1819440"/>
            <a:ext cx="8344080" cy="32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KB suurus on N, siis saab sellele rakendada maksimaalselt N ühikresolutsiooni sam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rukus on linea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LL idee on kasutada ära ühikresolutsiooni kui lineaarse keerukusega lahendajat ja lammutada mitte-horni-kujul reeglid rekursiivselt horni kujul tükkide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DPLL (wi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s, Martin; Putnam, Hilary (19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s, Martin; Logemann, George, and Loveland, Donald (19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P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clauses Φ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A Truth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DPLL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is a consistent set of literals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tr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ontains an empty clause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or every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unit clause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←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unit-propagat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;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or every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literal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that occurs pure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←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pure-literal-assig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←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choose-litera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DPL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)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DPLL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∧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(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ähelepanek: konjuktiivset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alkuju võib vaadelda ka lõpliku hulga atomaarjäreldusten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onjunktiivset normaalku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ib vaadelda hulg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), (q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, (p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), (r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) Triviaalne juhtum: ei ole vaja split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4484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) Mittetriviaalne juhtum: on vaja split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9838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a algoritm ise on väga lihtne, siis keskendub kiiremate algoritmide otsimine sellele, kuidas valida paremini hargnemissümbol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htne heuristi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 lausesümbol p, mis maksimeerib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_ , kus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slite arv, kus p esineb positiivselt, ja n_ on klauslite arv, kus n esineb negatiivs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da esmalt S[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, kui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_ , ning esmalt S[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], kui n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n_ 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meetodi põhiideeks on tuletada etteantud klauslite hulgast, mis esitavad reegleid ja fakte, uusi klausle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õige lihtsam versioon kasutab kaht tuletusreegl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reegel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us ponensi üldist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ktoriseerimisreegel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opeltmuutujate eemaldam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sikaline modus pon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-&gt;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a, kuid A-&gt;B esitatud disjunkti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-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 v 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reegel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odus ponensi üldistus suvaliste disjuntide pe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t-EE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t-E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t-E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———————————————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t-E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ulisel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ame muutuja A</a:t>
            </a:r>
            <a:r>
              <a:rPr b="0" lang="et-E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 on esimeses valemis positiivne ja teises negatiiv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õikame nii A</a:t>
            </a:r>
            <a:r>
              <a:rPr b="0" lang="et-E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ra ja kleebime ülejäänud kok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ktoriseerimisreegel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peltliteraalid võib kõrvalda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 </a:t>
            </a:r>
            <a:r>
              <a:rPr b="1" lang="et-EE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</a:t>
            </a:r>
            <a:r>
              <a:rPr b="1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————————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t-E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faktoriseerimisreegli rakendamisel klauslile C saame uue klausli C’, siis võime kustutada eelduse C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Miks: iga tõestuse, mis kasutab C saab ümber kirjutada tõestuseks, mis kasutab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’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-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üüpiliselt rakendatakse meetodit klauslite hulga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lisus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äitamiseks. Kui tahame tõestada valemi F tuletatavust, on see samaväärne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vastuolulisuse tõestamis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3:21:20Z</dcterms:created>
  <dc:creator>Tiina Zingel</dc:creator>
  <dc:description/>
  <dc:language>en-US</dc:language>
  <cp:lastModifiedBy>Tanel</cp:lastModifiedBy>
  <dcterms:modified xsi:type="dcterms:W3CDTF">2013-02-04T13:43:13Z</dcterms:modified>
  <cp:revision>28</cp:revision>
  <dc:subject/>
  <dc:title>Resolutsioonimeetod lausearvutuses.</dc:title>
</cp:coreProperties>
</file>